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1.png" ContentType="image/png"/>
  <Override PartName="/ppt/media/image22.jpeg" ContentType="image/jpeg"/>
  <Override PartName="/ppt/media/image14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6108-AD3C-430A-9397-57962B54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8F4B-4E68-4102-A4C8-4C29C7B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3D2C-2F26-4996-853D-82B8639C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9506-8175-4F21-82EE-32E996D6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A7F7-D0E2-447F-8ADC-36F028A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51D4-E5DF-404F-AEE2-E757A56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63AF-BAEE-48C9-8169-028A719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0648-5994-47ED-9C64-2DC73887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A6C-9D1D-4D06-9307-5C4CC618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505-71AD-4024-9316-9135B76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29E-7353-4DFF-BB9F-62714EA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BA03-7318-410B-ADC0-CAB3916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5DE2-169F-4FBE-AFC1-06AE61F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53C2-9CA0-4B02-9968-EAAC757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363E-06C7-42AF-BC70-46DBB13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AA5F-F330-478C-B03B-5B38F6BC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6C68-E6E7-47CF-938B-28A40AFE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959E-3611-48EE-BC5A-A111586C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6968-C334-4FB1-A400-61FBD00B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707C-FEB4-4F5D-91A0-6D330804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540C-260C-4C79-8E0B-8B9CBAAC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8681-E078-4CC3-B134-2E14EC5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B834-6BF4-4D70-A97A-528D077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54D0-F8A8-4124-8BC7-17FCC57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D88-2F22-4DA1-96C8-E9F80B1CA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5BC0-2291-4C71-947F-1F77F689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" Target="slide22.xml"/><Relationship Id="rId14" Type="http://schemas.openxmlformats.org/officeDocument/2006/relationships/image" Target="../media/image1.png"/><Relationship Id="rId15" Type="http://schemas.openxmlformats.org/officeDocument/2006/relationships/slide" Target="slide25.xml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27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У«Средняя общеобразовательная школа № 20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Щекино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дметный проект по математике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«Парадоксы в математи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7664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ца 8а 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цова Свет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374508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 не удивля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р. = 40000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ьмем верное равенство:2 р.=200к. Возведем его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ям в квадрат. мы получим: 4 р.=40000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ем ошиб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3943440"/>
            <a:ext cx="793116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Возведение в квадрат денег не имеет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вадрат возводятся числа, а не величи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580000" y="2924280"/>
            <a:ext cx="1871640" cy="1217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арадокс с ли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64087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ежем прямоугольник по пунктирной линии и сдвин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ижнюю часть влево вниз, как это показано на рис.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читав число вертикальных линий, вы обнаружите, ч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перь их стало девять. Какая линия исчезла и куд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двиньте левую часть в прежнее положение, и исчезнувш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ния появится снова. Но какая линия стала на свое мест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куда она взялас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190600" cy="12574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107640" y="3357720"/>
            <a:ext cx="62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емь из десяти вертикальных линий разрезаются пунктир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нией на два отрезка, и полученные шестнадцать отрез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ерераспределяются», образуя (вместе с двумя незатронут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тикальными линиями) девять линий, каждая из котор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уточку длиннее первоначаль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ак как приращение длины каждой линии весьма невелико, о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сразу обнаруживается. В действительности же суммар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личина этих приращений в точности равна длине каждой 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оначальных ли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6659640" y="3500280"/>
            <a:ext cx="2181240" cy="12574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гра в кам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ьмем пять кучек камешков по четыре камешка в к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стим один камешек из второй кучки в первую, два каме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третьей во вторую, три из четвертой в третью и, наконец, 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 камешка из пятой в четверт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такой передвижки оказывается, что кучек стало толь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. Невозможно ответить на вопрос, какая кучка исчезла,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камешки были перераспределены так, что в каждой из четыр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чек прибавилось по камеш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916360" y="3500280"/>
            <a:ext cx="3095640" cy="7239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атематические комедии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ант с квадр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32000" y="1698480"/>
            <a:ext cx="367020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фигур (рис.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ли 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ис.2) и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ис.3) с площадями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65 кв.ед. так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и составлены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аковых час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 64=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755640" y="1557360"/>
            <a:ext cx="3830760" cy="39290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54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исла Фибонач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6048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азывается, что длины сторон четырех часте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авля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гуры, являются членами ряда Фибоначчи, т.е.  ряда чис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чинающегося с двух единиц: 1, 1, каждое из которых, начи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третьего, есть сумма двух предшествующих. Наш ряд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д 1, 1, 2, 3, 5, 8, 13, 21, 34,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оложение частей, на которые был разрезан квадрат, в ви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ямоугольника иллюстрирует одно из свойств ря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ибоначчи, а именно следующее: при возведении в квадра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юбого члена этого  ряда получается произведение дву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едних членов ряда плюс  или минус едини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нашем примере сторона квадрата равна 8, а  площадь ра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. Восьмерка в ряду Фибоначчи расположена между 5 и 1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ак как числа 5 и 13 становятся длинами сторон прямоугольни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 площадь его должна быть равной 65, что дает  прир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ощади в одну един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лагодаря этому свойству ряда можно построить квадра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ороной которого является любое число Фибоначчи, больш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 а затем разрезать его на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6723000" y="2095560"/>
            <a:ext cx="1832040" cy="22176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5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5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5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5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0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500"/>
                            </p:stCondLst>
                            <p:childTnLst>
                              <p:par>
                                <p:cTn id="6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ант с прямоуголь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11280" y="2565360"/>
            <a:ext cx="4932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ет много способов, котор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 можно разрезать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большое число частей, а за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ить их в виде друг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ямоугольника большей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ьшей площад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924000" y="3141720"/>
            <a:ext cx="52196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57640" cy="33703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64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0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8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зрезание квадрата на 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ежем квадрат на четыре части одинаковой формы и размера (рис. 1)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тем составим их по-новому так, как показано на рис. 2. При этом получ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, размеры которого кажутся не изменившимися и в то же врем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верстием в серед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обным же образом можно разрезать прямоугольник с любым отнош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ин сторон. Любопытно, что точк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в которой, пересекаются две взаим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пендикулярные линии разреза, может при этом находиться в любо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и 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каждом случае при перераспределении частей появляется отверст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чем размер его зависит от величины угла, образованного линия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еза, со сторонами прямоуголь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1800360" cy="17910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1779480" cy="18003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6012000" y="4581360"/>
            <a:ext cx="1873080" cy="1760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500"/>
                            </p:stCondLst>
                            <p:childTnLst>
                              <p:par>
                                <p:cTn id="7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500"/>
                            </p:stCondLst>
                            <p:childTnLst>
                              <p:par>
                                <p:cTn id="7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птические иллюз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 ли прямые АВ и СД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81120" y="2351160"/>
            <a:ext cx="7397640" cy="29368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1042920" y="3357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400536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32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32360" y="3141720"/>
            <a:ext cx="273528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32360" y="386064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68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68" fill="hold"/>
                                        <p:tgtEl>
                                          <p:spTgt spid="5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68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68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998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498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998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498"/>
                            </p:stCondLst>
                            <p:childTnLst>
                              <p:par>
                                <p:cTn id="7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498"/>
                            </p:stCondLst>
                            <p:childTnLst>
                              <p:par>
                                <p:cTn id="7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араллельны ли заштрихованные ли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971640" y="2284560"/>
            <a:ext cx="4397400" cy="34509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80" name=""/>
          <p:cNvSpPr/>
          <p:nvPr/>
        </p:nvSpPr>
        <p:spPr>
          <a:xfrm>
            <a:off x="6443640" y="4653000"/>
            <a:ext cx="16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, линии паралл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16000" y="4941720"/>
            <a:ext cx="86364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16000" y="414972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16000" y="3357720"/>
            <a:ext cx="2303640" cy="23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16000" y="2565360"/>
            <a:ext cx="3095640" cy="316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35280" y="2492280"/>
            <a:ext cx="3097080" cy="324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56000" y="2492280"/>
            <a:ext cx="2376360" cy="2449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48000" y="2492280"/>
            <a:ext cx="1584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40360" y="2492280"/>
            <a:ext cx="79200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000"/>
                            </p:stCondLst>
                            <p:childTnLst>
                              <p:par>
                                <p:cTn id="8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000"/>
                            </p:stCondLst>
                            <p:childTnLst>
                              <p:par>
                                <p:cTn id="8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бман з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258920" y="3357360"/>
            <a:ext cx="1657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5084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47640" y="4653000"/>
            <a:ext cx="432000" cy="431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987640" y="4076640"/>
            <a:ext cx="432000" cy="4334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24360" y="4149720"/>
            <a:ext cx="216000" cy="216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24360" y="443700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80000" y="429264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80000" y="4149720"/>
            <a:ext cx="71640" cy="71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4437000"/>
            <a:ext cx="7164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2000" y="4149720"/>
            <a:ext cx="712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012000" y="4292640"/>
            <a:ext cx="712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24360" y="4005360"/>
            <a:ext cx="7308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67280" y="4005360"/>
            <a:ext cx="71640" cy="7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93080" y="4076640"/>
            <a:ext cx="215640" cy="216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308720" y="429264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80360" y="386064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948360" y="364500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77080" y="4365720"/>
            <a:ext cx="360360" cy="360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59640" y="4005360"/>
            <a:ext cx="360360" cy="3585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1484280"/>
            <a:ext cx="748800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кружок больше на кажд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ис.1                                рис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5280" y="32464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жки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16360" y="2997360"/>
            <a:ext cx="30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 кружки рав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кажутся нерав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1" action="ppaction://hlinksldjump"/>
          </p:cNvPr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противоречия в исторических и современны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зать или опровергнуть все противоречия с помощью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математические обм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хилл и черепах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смотрим  рассуждение, придуманное греческим философом Зеноном Элейским еще в 5 веке до нашей эры: быстроногий Ахилл хочет догнать черепаху, которая находится в 10 метрах впереди него и движется со скоростью в 100 раз меньшей, чем Ахилл, но когда Ахилл пробежит эти 10 метров, черепаха уползет немного вперед, переместившись в какую-то точку В, а когда Ахилл добежит до точки В, черепаха опять окажется впереди в точке С, и так продолжится до бесконечности – Ахилл никогда не догонит черепах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2058840"/>
            <a:ext cx="3803760" cy="2295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p:transition spd="med">
    <p:wedg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Математические рассуждения в задаче Зенон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смотримся к рассуждению внимательно: пусть скорость черепахи ра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/с, скорость Ахилла 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/с, тогда 10 метров Ахилл пробежит за врем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ое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, за это же время черепаха проползет путь, равный 0,1м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преодолеть этот путь, Ахиллу понадобится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кунд, а черепа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это время уползет еще на 0,001 метра… итак расстояние, котор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лзет черепаха за п этапов этого соревнования, рав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+0,001+…+0,1 </a:t>
            </a:r>
            <a:r>
              <a:rPr b="0" lang="ru-RU" sz="1600" spc="-1" strike="noStrike" baseline="40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0,01</a:t>
            </a:r>
            <a:r>
              <a:rPr b="0" lang="ru-RU" sz="1600" spc="-1" strike="noStrike" baseline="50000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0,1(1 – 0,01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п+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/(1 – 0,01) метра , и даже если 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бесконечно много таких шагов, то черепаха за все эти шаги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лзет больше, чем 10/99 метра, а времени на это будет затрачено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, чем 10/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кунд, тогда-то Ахилл и догонит черепаху. Труд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го рассуждения заключается в следующем: кажется что никакая сум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ечного числа слагаемых, даже если эти слагаемые очень маленьк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может быть равна конечному числу. Именно поэтому и кажется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гоня Ахилла за черепахой будет продолжаться бесконечно долго, а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ньше 0,1 секунды. А рассуждение Зенона как раз должно было подчеркн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речие между непрерывностью, бесконечной делимостью времен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, что каждый конкретный промежуток времени име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сть отличную от ну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" action="ppaction://hlinksldjump"/>
          </p:cNvPr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6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6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6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6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6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6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емы математического сч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ение любого пятизначного числа на 99999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юбое пятизначное число. Я его быстро умножу на 999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 будет число 64728. Ответ: 6472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99999=64727352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ное число (64728)уменьшено на 1 (64727), и к результату приписываются дополнения каждой цифры (этого результата) до 9. Прием вытекает из того, что умножение числа на 99999 равносильно умножению числа на 100000 (то есть приписываются к нему пять нулей) и последующему вычитанию из результата самого чис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емы математического сч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ведите в куб любое двузначное число. Смотрите, не ошибайтесь! Я в уме извлеку из результата кубический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это чис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85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6668640" y="269532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5794200" y="1990800"/>
            <a:ext cx="2129040" cy="22320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6012000" y="47221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: 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768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768" fill="hold"/>
                                        <p:tgtEl>
                                          <p:spTgt spid="6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2" dur="768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4" dur="768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998"/>
                            </p:stCondLst>
                            <p:childTnLst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2" dur="5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извлечь кубический корен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помним кубы 9 первых натуральных чисел: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1,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8,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7,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64,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125,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16,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343,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512,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729. Замечаем, что куб каждого из крайних двух из этих девяти чисел (1 и 9) и средних трех (4,5,6) оканчивается той же цифрой, какой записывается само число, а куб каждого из остальных четырех чисел – дополнением этой цифры до 10. Число 328509 оканчивается цифрой 9, значит, и его кубический корень оканчивается девяткой. Кроме того,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2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28, 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3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28. Значит первая цифр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тематика глазами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эта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их «математических» стихотворений (то есть связанных с математикой) немного, а тем более таких в которых встречается что то веселое и занимательное. Приведем несколько стихотворений, взятых из книги В. Лиц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288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дут две паралл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куда и ку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ть может, что у ц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быть им никог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рядом плыть до гроб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да судьба ве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шили друга о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твердо шли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вот года прохо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долгих лет и з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76720" y="3213000"/>
            <a:ext cx="58672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а странника все бро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 вечно быть дво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изки и неразлуч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тали уста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ть рядом неотлуч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ать, да не дос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дут ли в бескон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будет ли да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ть погрузившись в ве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ум слиться им в од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227280" y="2924280"/>
            <a:ext cx="1800360" cy="17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6732720" y="3500280"/>
            <a:ext cx="1800000" cy="20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6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6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6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6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рассмотрели различные математические парадоксы и как сказал Ломоносов М.В.: «Все, что без этого было темно, сомнительно и неверно, математика сделала ясным, верным и очевид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 думаем, что после всего рассмотренного никто не скажет, что математика – это сухая, неинтересная наука и ,чтобы все это сочинить и доказать, любой математик должен быть в душе поэ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71640" y="4076640"/>
            <a:ext cx="338472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к М.Б. Организация и содержание внеклассных занятий по математике пособие для учителей/ М.Б.Балк. – М.: Учпедгиз, 19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днер М. Математические досуги. –М.:Оникс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видно – невероятно.//Математический клуб «Кенгуру», Вокруг квадратного трехчлена, СПб. –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шов А.П. Вопросы внеклассной работы по математике в школе. – М.: Учпедгиз, 196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я создан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 и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парадо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 с ли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в ка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комедии( вариант с квадратом, числа Фибонач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с прямоугольником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ие иллю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ан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Зенона Эл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47900"/>
                </a:solidFill>
                <a:uFillTx/>
                <a:latin typeface="Arial"/>
                <a:hlinkClick r:id="rId13" action="ppaction://hlinksldjump"/>
              </a:rPr>
              <a:t>Приемы математического с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47900"/>
                </a:solidFill>
                <a:uFillTx/>
                <a:latin typeface="Arial"/>
                <a:hlinkClick r:id="rId15" action="ppaction://hlinksldjump"/>
              </a:rPr>
              <a:t>Математика глазами поэ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8"/>
          <a:stretch/>
        </p:blipFill>
        <p:spPr>
          <a:xfrm>
            <a:off x="4932360" y="3933720"/>
            <a:ext cx="3095640" cy="2108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дея создан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жды на уроке математике одноклассник в контрольной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л глупую ошибку :  2 х 2 =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засмеялись, но учитель сказал: « Да, действительно 2 х 2 = 4,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йчас я на доске путем математических рассуждений докажу, что 4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это произошло, опровергнуть рассуждения учителя с пер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а нам не удалось. Но задание вызвало особый интерес, которы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л меня к созданию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ководителем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ла 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фон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Фантазия и 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онардо да Винчи говорил: «Никакое человеческое исследование не может быть названо истиной, если оно не проходит через математические доказательства». В своей работе мы попытаемся доказать, что математика - это не сухая наука. В сущности же это  наука, требующая наиболее фантазии. Напрасно думают, что фантазия нужна только поэту. Это глупый предрассудок! Даже в математике она нужна, потому что любое математическое открытие невозможно было бы без фантазии. А один из великих ученых говорил совершенно верно, что нельзя быть математиком, не будучи в то же время поэтом в душе. А так же в своей работе мы хотели бы показать отношение известных поэтов к математ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6237360"/>
            <a:ext cx="565200" cy="230040"/>
          </a:xfrm>
          <a:custGeom>
            <a:avLst/>
            <a:gdLst>
              <a:gd name="textAreaLeft" fmla="*/ 188280 w 565200"/>
              <a:gd name="textAreaRight" fmla="*/ 484200 w 565200"/>
              <a:gd name="textAreaTop" fmla="*/ 132480 h 230040"/>
              <a:gd name="textAreaBottom" fmla="*/ 197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онятие парадо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докс в широком смысл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ерждение, резко  расходящеес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щепринятыми, устоявшимися мнен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ицание того, что предста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безусловно правильным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 греческое слово, от котор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едено наше слово "парадокс"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квально означало "необычное, стран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ероятное, замечательное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докс в более узком и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ременном значении — это д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ивоположных утверждения, для кажд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которых имеются представляющ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бедительными аргумен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238800" y="2484360"/>
            <a:ext cx="235764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физ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физм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ывается такое суждение, в котором неправильные (ложные) предпосылки выдаются за истинные, в результате чего мы приходим к нелепым умозаключ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тематическом софизме заведомо допускается замаскированная ошибка, которая в процессе вывода приводит к абсурдному результату. Разобрать софизм это значит найти ошиб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работа в России, посвященная математическим софизмам, вышла в 1884 году; автором ее был Василий Иванович Обреи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берем один математический соф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14080" y="334440"/>
            <a:ext cx="7978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×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2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имеем два числа: а=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. Обозначим их полусумму 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(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; а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2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– a=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множим последние два равенства почленно; тогда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множим обе части равенства на – 1. Получ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бавим к обеим частям п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получ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следовательно, а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отсю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о а=4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; значит, 4=5, то ес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5, 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ение: ошибка сделана в момент извлечения квадратного корня; равенство степеней не всегда говорит о равенстве их осн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се числа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ьчик написал на доске верное равен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+10-41=42+12-5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  затем вычел из обеих частей по 4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5+10-45=42+12-5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заметил, что в левой части равенства все числа делятся на 5,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й - на 6.  Тогда он вынес в левой части 5 за скобки, 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й - 6 и получил 5(7+2-9)=6(7+2-9). Сократив обе части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множитель, Петя получил, что 5=6. Где он ошиб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енству  ac=bc при с=0 удовлетворяют любые числа a и b. Ошибка Пети  состоит в том, что он сократил на число 7+2-9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7:58:04Z</dcterms:created>
  <dc:creator>Лорис</dc:creator>
  <dc:description/>
  <dc:language>en-US</dc:language>
  <cp:lastModifiedBy>Admin</cp:lastModifiedBy>
  <dcterms:modified xsi:type="dcterms:W3CDTF">2011-01-20T18:08:40Z</dcterms:modified>
  <cp:revision>36</cp:revision>
  <dc:subject/>
  <dc:title>Парадоксы в математике</dc:title>
</cp:coreProperties>
</file>